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C81-D95E-48DA-94F5-644D8E4A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62A-0FF7-4870-87B3-20D29560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8F2-093C-4811-9D18-F45D6FE7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416-90BC-4EC3-94C8-75DE90E4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5B3-4288-45FC-88B8-3A7F1C9C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F7B-27F2-45E8-9DED-F514D9A4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071-E698-41BE-96AE-D881E820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604-B368-49DF-A9E4-D601E335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0D2-A85E-427E-A1E5-193E09E8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BC4-3900-444B-912B-A4C0B967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685-1EF5-486F-92BF-FE739BF0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BE5-8C51-4736-8D42-8DF242BA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8406-7C1D-451A-9E65-A171F1A3A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0 Na úsvite sná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blízko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íťazný ozve sa hl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Pán Ježiš už prichádz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Haleluja! Amen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úsvite sná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i tma keď sa tra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nečný lúč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títy hôr v diaľke zlát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ub svoj splní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ba vráti sa zas k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hromaždí verný svoj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blízko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íťazný ozve sa hl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Pán Ježiš už prichádz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Haleluja! Amen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náď na polud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žno deň sa schý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triebrosvit hviezd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plaví kraj po chví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o polnoc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de v sláve a moc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ástupy anjelov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blízko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íťazný ozve sa hl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Pán Ježiš už prichádz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Haleluja! Amen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ríde náš Pán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ýchlo čas ten sa k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ub, ktorý dal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to už nevyvrá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nás k sebe vzi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ži vlasť novú nám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hriech ani smrť nebu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2T16:08:06Z</dcterms:modified>
  <cp:revision>38</cp:revision>
  <dc:subject/>
  <dc:title>Je veľký náš Pán, on slávy je Kráľ Nech do všetkých strán  spev vrúcnych znie chvál.</dc:title>
</cp:coreProperties>
</file>